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907-5837-4FF1-9ED5-B7A27E1F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353-116B-402F-980E-76D52AEA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94F-3D0A-4D5C-86CF-5B8D8A45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972-2301-4B7E-9D7B-696FCA3D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5EB-3DF3-4363-9930-EEE38947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CF0-BDFB-49B9-83CF-4B9720A8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452B-4DA4-48CD-A5B5-A6E93F04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7D1-8CC8-4EFA-B522-D8259D3B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880-1BC2-4A47-B5F9-6C79D0DF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692-C596-4565-B9A4-E20DB03A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6BC9-5CAC-48F9-B907-36195A6F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4A7-96F5-42F9-9A68-DF3CF47D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E17F-0798-418E-A370-A7B5F906708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7"/>
          <p:cNvSpPr/>
          <p:nvPr/>
        </p:nvSpPr>
        <p:spPr>
          <a:xfrm>
            <a:off x="1428840" y="214200"/>
            <a:ext cx="4286160" cy="107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ВП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трелка вниз 11"/>
          <p:cNvSpPr/>
          <p:nvPr/>
        </p:nvSpPr>
        <p:spPr>
          <a:xfrm>
            <a:off x="2714760" y="128592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12"/>
          <p:cNvSpPr/>
          <p:nvPr/>
        </p:nvSpPr>
        <p:spPr>
          <a:xfrm>
            <a:off x="2214720" y="2000160"/>
            <a:ext cx="4286160" cy="107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.дефициты педаг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3"/>
          <p:cNvSpPr/>
          <p:nvPr/>
        </p:nvSpPr>
        <p:spPr>
          <a:xfrm>
            <a:off x="3357720" y="3857760"/>
            <a:ext cx="4286160" cy="107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14"/>
          <p:cNvSpPr/>
          <p:nvPr/>
        </p:nvSpPr>
        <p:spPr>
          <a:xfrm>
            <a:off x="4857840" y="5786280"/>
            <a:ext cx="4286160" cy="107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трелка вниз 15"/>
          <p:cNvSpPr/>
          <p:nvPr/>
        </p:nvSpPr>
        <p:spPr>
          <a:xfrm>
            <a:off x="4857840" y="3143160"/>
            <a:ext cx="214200" cy="7146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трелка вниз 16"/>
          <p:cNvSpPr/>
          <p:nvPr/>
        </p:nvSpPr>
        <p:spPr>
          <a:xfrm>
            <a:off x="6000840" y="500076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rcRect l="12285" t="22096" r="12285" b="10030"/>
          <a:stretch/>
        </p:blipFill>
        <p:spPr>
          <a:xfrm>
            <a:off x="0" y="3000240"/>
            <a:ext cx="9144000" cy="3857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rcRect l="13215" t="28519" r="12664" b="25586"/>
          <a:stretch/>
        </p:blipFill>
        <p:spPr>
          <a:xfrm>
            <a:off x="0" y="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назначение и смысл ресурсной кар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168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у́р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от фр. ressource) — источник покрытия нужд, потреб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И. Слободчиков            Ресурс - Потенц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урс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словарю) - разного рода источники возможного действия, а потенциал - структурированный ресурс определённой мощ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урс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– наглядное представление разных типов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ур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 взаимосвязи между ними, использование которых может пригодиться педагогу (управленцу) для реализации ОЗ по преодолению выявленных П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назначение ресурсной кар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одержательное и технологическое обеспечение составления и реализации И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F589-C947-407E-952A-830AB502ED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ень ресурсной кар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14200" y="1643040"/>
          <a:ext cx="8715600" cy="5286240"/>
        </p:xfrm>
        <a:graphic>
          <a:graphicData uri="http://schemas.openxmlformats.org/drawingml/2006/table">
            <a:tbl>
              <a:tblPr/>
              <a:tblGrid>
                <a:gridCol w="2571840"/>
                <a:gridCol w="6143760"/>
              </a:tblGrid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0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овая подгот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0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ы, вебинары, практикумы, мастер – классы и т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0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 по плану Р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ы, практикумы, мастер – классы и т.д. по плану методической работы райо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0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 по плану Ш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ы, практикумы, мастер – классы и т.д. по плану методической работы школ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6DEF-1E51-4CA9-851D-00A1819A56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2960" y="785880"/>
            <a:ext cx="821520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Тема семинар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«Ресурсное картирование, как средство составления ИОМ педагогов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ктическая часть 1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(работа в группах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7168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ни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итесь в группы по ШМО и предложите методические мероприятия, направленные на решение ваших образовательных задач, в соответствии с дефицитами,  на уровне ШМО и методической службы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 на работу: 20 мин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: определены мероприятия для  ресурсной карты школьного уров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ктическая часть2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индивидуальная работ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4200" y="178596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пользуя ресурсные карты, проведите корректировку вашего И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ратите внимание на то, что профессиональный дефицит формулировать следует с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мени существительного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; задачи –с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агол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; действия –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уществительны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57120" y="285840"/>
          <a:ext cx="8572680" cy="6257880"/>
        </p:xfrm>
        <a:graphic>
          <a:graphicData uri="http://schemas.openxmlformats.org/drawingml/2006/table">
            <a:tbl>
              <a:tblPr/>
              <a:tblGrid>
                <a:gridCol w="857160"/>
                <a:gridCol w="1857600"/>
                <a:gridCol w="2286000"/>
                <a:gridCol w="1214280"/>
                <a:gridCol w="2357640"/>
              </a:tblGrid>
              <a:tr h="122688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фици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разовательные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, мероприятия по реализации образовательных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ерное время на реализацию действий,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а предъявления резуль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100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ы и приёмы работы с текстом, составление заданий, направленных на формирование читательской грамот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учить методы и приёмы работы с текст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знакомиться с методикой составления заданий, направленных на формирование Ч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ользовать составленные задания в учебном процесс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хождение курсовой подготовки по ЧГ (ТРЕК на базе ЦНППМПР, 120 ч., руководитель Долгодворова Елена Юрьев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в практическом семинаре по теме «Методика составления заданий, направленных на формирование ЧГ» (на уровне ШМ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ключение в каждую тему урока одного задания, направленного на формирование и оценку Ч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тябрь – ноябрь 2021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кабрь 2021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полугодие 2021-2022 учебного год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достоверение о курсовой подготовке, распространение опыта, полученного в ходе курсовой подготовки на разном уровн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стер – класс «Методы и приёмы работы с текстом, составление заданий, направленных на формирование и оценку ЧГ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нк заданий, направленных на формирование и оценку Ч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сотрудничеств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6E3A-B715-4D71-8410-29EE743D56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Засучите рукава, упорно работайте и знайте, что ваши усилия в конечном итоге окупятся, если вы будете учиться и расти»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тив Пав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Наталья</cp:lastModifiedBy>
  <dcterms:modified xsi:type="dcterms:W3CDTF">2021-05-24T09:52:06Z</dcterms:modified>
  <cp:revision>837</cp:revision>
  <dc:subject/>
  <dc:title>Diapositiva 1</dc:title>
</cp:coreProperties>
</file>